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64A-26B2-416F-B90D-A0875F6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F62-9A49-4361-9D6A-BB4EE32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16F-7FCE-493B-9528-FF5B73C3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28D-E673-495F-B377-D096C1DB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2C9-3F85-4E72-8327-4CF2084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FF1-49B6-495C-A8A0-8D6F9BB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4F2-C0CA-4B6B-8D91-F1203B8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5DD-C630-47BF-904D-1404FB19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50E-D879-452A-9F82-0D3241C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F2D-4953-4A54-8C36-FF57A99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807-1E2D-4F81-A3C1-2AAB9E8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351-B0BB-4372-B864-C73C239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953F-4AD8-416A-9980-C13E8EF1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34080"/>
            <a:ext cx="8839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1 Divisibility and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Using Divisibilit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 4.3 Prime Factorization and Greatest Common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Prime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Finding the G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4.4 Simplify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1: Finding Equivalent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2: Writing Fractions in simpl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269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13372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. 189  #18 – 24 even      p. 194 #28 – 34 even    and  p. 195 #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78487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687600"/>
            <a:ext cx="869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sibility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 number is 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sum of the digits is divisible b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last two digits are divisible b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Ends in 5 or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it’s divisible by 2 a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last three digits are divisible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If the sum of the digits is divisible by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Ends in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680" y="302760"/>
            <a:ext cx="5538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integer is divisible by anothe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integer is a factor of another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840" y="3750120"/>
            <a:ext cx="460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45 divisible by 3? 5?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factors of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762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remainder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2286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f it divides that integer with a remainder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419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yes, yes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548640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, 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,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682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906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it ends i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44792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it doesn’t end in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9810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it’s not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5146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it’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048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6+4 = 10 and 10 is not divisible by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58128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No, 4+7+2 =13 and 13 is not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114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1+4+7 = 12 and 12 is divisible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6483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Yes, 4+3+5+4+2 = 18 and 18 is divisivble by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52880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2,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5334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3, 7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56386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2, 3, 4, 6, 8, 12,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63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1,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5280" y="3355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4120" y="17517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15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learn that 21 out of 28 students in a class buy their lunche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eteria. Write and simplify the fraction to describe thi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400" y="228240"/>
            <a:ext cx="33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in simplest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38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360" y="22500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Common Factor (G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0080" y="410004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ime or Compo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              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1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533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integer, greater than 1,  whose only factors are one and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447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371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n integer, greater than 1, with more than two positive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286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riting a number as a product of pr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2004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 greatest factor that two numbers have in 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733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int: It’s smaller than either of th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4952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m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prime factorization of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1360" y="3276360"/>
            <a:ext cx="51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GCF of 24 and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GCF of    36ab  and    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838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1, 13, 17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10, 12, 14, 15, 16, 18,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3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1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5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3124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* 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5:00:12Z</dcterms:created>
  <dc:creator>Susannah Graham</dc:creator>
  <dc:description/>
  <dc:language>en-US</dc:language>
  <cp:lastModifiedBy>grahams</cp:lastModifiedBy>
  <dcterms:modified xsi:type="dcterms:W3CDTF">2011-12-14T14:33:41Z</dcterms:modified>
  <cp:revision>6</cp:revision>
  <dc:subject/>
  <dc:title>Slide 1</dc:title>
</cp:coreProperties>
</file>